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0E4630-E2E9-429B-B21A-40A7296E27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664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D3F-8B6C-42DE-AD64-DA14FA8D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BD2-392C-460D-AE12-A6108ED2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DA4-8E2B-4DB4-A977-B2BD8FD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33E-EE9E-4AE0-B026-0D298B93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FCA-C502-4561-B591-2B3F887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CF5-9309-4147-8AB0-77BBAD5A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2BE7-BB84-4C6E-9477-F4031920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531-28C7-42AE-94A6-EAF415B9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E25-F9DF-464F-A15D-024F3060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8B19-BA1E-4E68-B97A-F8C90305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054-220B-479A-820E-7351F70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B1E-EB2D-41F0-BE70-C3321C8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A3C6B6-4B81-47E2-A28F-B2CA01BE5F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5360" y="360360"/>
            <a:ext cx="652464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1261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312840"/>
            <a:ext cx="64008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12612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8580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312840"/>
            <a:ext cx="6400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60720" y="179280"/>
            <a:ext cx="630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371600" y="312840"/>
            <a:ext cx="70866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3152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0866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5438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312840"/>
            <a:ext cx="75438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312840"/>
            <a:ext cx="7086600" cy="67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6858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629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312840"/>
            <a:ext cx="662940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2080" y="312840"/>
            <a:ext cx="6354720" cy="70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